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901-AE96-4E3C-B618-83599F14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BD9-BEAC-4712-895A-6BD2A03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18F-2A90-4279-B8AD-25F66951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0CC-6AD1-4415-9454-0EF0B420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F2F-BFB8-4F68-97FF-08C0D83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62C-BC9D-4AE1-803A-F769DBDB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058-C519-4AE2-B00D-30F5324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28A-54E6-442B-9BF2-59EC4B3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2F4-49C6-46BF-828D-CB66F7F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E31-E707-4B00-AD9A-4DF1643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966-2D9A-4C84-A344-8D9A327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636-A4C3-4D45-805A-92839D2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34B-F98B-4380-B308-04892BE6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/1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the following aspects of patien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Lab Results/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IV test, 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Vit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art Rate,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sulin,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DCM (and potentially HL7 R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81160" y="14400"/>
            <a:ext cx="49816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3-18T14:16:20Z</dcterms:modified>
  <cp:revision>42</cp:revision>
  <dc:subject/>
  <dc:title>Slide 1</dc:title>
</cp:coreProperties>
</file>